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16F-8AF1-4CA3-8CB6-2E0AC3F6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B43-6266-462C-AD66-ECB48EEB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831-6CF4-4390-BC56-691468BC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FD1-2424-4FAF-909E-FFA0F607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32F-57B3-4822-B34A-D6193706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17B-FE72-429C-B292-1ECC502B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A17-F389-4423-A71F-4707B566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C7A-1532-458E-8346-A66F734E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BB9-CF95-4E9E-A200-0C760265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14D-C4D1-4C29-8244-8135B028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450-4902-4627-A39E-61E6105E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5DA-75F6-4F88-913B-1AA49057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94986-4BA9-418B-9DB3-327D911626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p and CM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 towards CMap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MAE - CMap Assembly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n F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12720" y="1690560"/>
            <a:ext cx="707580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lighted Features in CMap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8000" y="218772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t plot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at map gly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igurable 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twork install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t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271520"/>
            <a:ext cx="4559400" cy="535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510552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at Map Feature Gly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91040" y="1589040"/>
            <a:ext cx="162540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th to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up Chado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MWare Ap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E – CMap Assembly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7427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